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0C0-2D8D-4CC8-83DD-54156BAD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1F6-DD90-4ED3-A807-4A4EFFA6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FBD-DB12-4104-B351-0B14BE7A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5AE3-31FB-46D0-B42E-B8A90AA1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244-F368-4FAA-A18C-05ED0BF5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FBB-ED67-46B7-8499-058A4B02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D83-0FDE-4AE8-A4AE-5F555E11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F28-C5EF-4DCD-BE0F-A7BA1F51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E6A-7196-444D-9C6B-6F87EB00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083-DE79-44CA-869A-F748F658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97B-2B2D-4892-A0A3-311042E2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CAD-0A03-4E5F-94DF-7CB8BFC8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AC8B-DB11-4F99-9441-FF96966A7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36232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77320" cy="2273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2120" y="3745080"/>
            <a:ext cx="7162560" cy="825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for every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n the graph, the point (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lso on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8842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2449440"/>
            <a:ext cx="1143000" cy="76212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4125960"/>
            <a:ext cx="838080" cy="45720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8210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1.  </a:t>
            </a:r>
            <a:r>
              <a:rPr b="1" lang="en-US" sz="2800" spc="-1" strike="noStrike">
                <a:solidFill>
                  <a:srgbClr val="e13405"/>
                </a:solidFill>
                <a:latin typeface="Arial"/>
              </a:rPr>
              <a:t>Fill in the b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7467840" cy="222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0200" y="4191120"/>
            <a:ext cx="7162920" cy="825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 for 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, for every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on the graph, the point (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also on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415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3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1828800"/>
            <a:ext cx="1371600" cy="83808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4572000"/>
            <a:ext cx="914400" cy="45720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4311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4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769160" cy="3387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5.  </a:t>
            </a:r>
            <a:r>
              <a:rPr b="1" lang="en-US" sz="2800" spc="-1" strike="noStrike">
                <a:solidFill>
                  <a:srgbClr val="e13405"/>
                </a:solidFill>
                <a:latin typeface="Arial"/>
              </a:rPr>
              <a:t>Fill in the blanks in the theorem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2971800"/>
            <a:ext cx="1218960" cy="53352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4038480"/>
            <a:ext cx="1295280" cy="60984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6955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3000" y="2286000"/>
            <a:ext cx="8658000" cy="6382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384720"/>
            <a:ext cx="8686800" cy="6094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52280" y="76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6.  </a:t>
            </a:r>
            <a:r>
              <a:rPr b="1" lang="en-US" sz="2800" spc="-1" strike="noStrike">
                <a:solidFill>
                  <a:srgbClr val="e13405"/>
                </a:solidFill>
                <a:latin typeface="Arial"/>
              </a:rPr>
              <a:t>Fill in the bl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457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1676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2819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371600"/>
            <a:ext cx="1600200" cy="30492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590920"/>
            <a:ext cx="1676160" cy="30456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3384720"/>
            <a:ext cx="914400" cy="30456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23920" y="4530600"/>
            <a:ext cx="8696160" cy="6667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57040" y="5695920"/>
            <a:ext cx="8629920" cy="6285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3809880" y="3965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14044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4835520"/>
            <a:ext cx="1371600" cy="30492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6010200"/>
            <a:ext cx="1371600" cy="30492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9240" y="1066680"/>
            <a:ext cx="8705520" cy="23148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15228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8.  </a:t>
            </a:r>
            <a:r>
              <a:rPr b="1" lang="en-US" sz="2800" spc="-1" strike="noStrike">
                <a:solidFill>
                  <a:srgbClr val="e13405"/>
                </a:solidFill>
                <a:latin typeface="Arial"/>
              </a:rPr>
              <a:t>Fill in the bla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071800"/>
            <a:ext cx="1371600" cy="60948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3062160"/>
            <a:ext cx="2057400" cy="304920"/>
          </a:xfrm>
          <a:prstGeom prst="rect">
            <a:avLst/>
          </a:prstGeom>
          <a:solidFill>
            <a:srgbClr val="f229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9T05:00:22Z</dcterms:modified>
  <cp:revision>7</cp:revision>
  <dc:subject/>
  <dc:title>Slide 1</dc:title>
</cp:coreProperties>
</file>